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E059-8617-453C-97D7-10B134CA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C18E-8E0D-40AE-B7A0-FA25CEEA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50C1-8DED-4474-9B79-81D4821B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5E3-CD89-424F-BAE3-0E59E244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6FC-989B-4C66-AF1F-6E1F72FD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09B8-A371-4AD8-9042-B34973D7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DB30-6549-4241-B7BE-008C3B3E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58F-E3D9-4D6C-9FCE-85402B72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EA5D-1F75-4A61-8487-11B51FC6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0521-B0E6-4490-BAC5-8C50532B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C0B-2FCA-4993-9E20-BBCF9A86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61CF-6225-4071-BB64-687A863A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D8F7-AFDC-4FFF-8B2A-CBE6C5751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7057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41720" y="304920"/>
            <a:ext cx="4717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07:23:31Z</dcterms:created>
  <dc:creator>Customer</dc:creator>
  <dc:description/>
  <dc:language>en-US</dc:language>
  <cp:lastModifiedBy>Customer</cp:lastModifiedBy>
  <dcterms:modified xsi:type="dcterms:W3CDTF">2010-12-20T07:23:31Z</dcterms:modified>
  <cp:revision>1</cp:revision>
  <dc:subject/>
  <dc:title>Слайд 1</dc:title>
</cp:coreProperties>
</file>